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8.wmf" ContentType="image/x-wmf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81C-BAED-46D8-B41A-46ED6CC5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F58-9411-4869-B88F-9C8C8111C9F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28E-9B93-4890-9B90-2FC06F59ECB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5E79-B4FB-4417-80BF-59CF39B7EE5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571-566B-4076-AF66-C84A0C7112A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2001-1A35-492B-BB51-44392FB3EBB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3178-BFAB-4F45-8B33-CC04401D0A6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A16A-68D6-49ED-8E41-FDF68DCB069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94D-C50A-438D-92A1-1A54C9A8F70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D7B-FD92-4F56-BFEE-9CCAD5DB5E5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DDC-9475-4861-994B-4B603BFDFBE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D10-7460-46E5-9185-715E63805F7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3839-B0F8-4C24-B631-C1962F02E12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0B75-1850-4661-904E-1665CE0FD3D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E2FB-3FF9-4E71-9AA9-6FA95BC4BF6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C223-3F9A-4E53-9CD5-ADE6077A008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2994-70F5-4803-8AE9-21FEF5B6C31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CAFD-84B7-463C-8732-01DEC1B5196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1BF-4C0C-45D3-8516-1C784C80EEC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5671-92F3-4FF4-875A-A1CFA955AD7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pi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003c"/>
                </a:solidFill>
                <a:latin typeface="Microsoft Sans Serif"/>
              </a:rPr>
              <a:t>Актуальные вопросы содержания контрольных измерительных материалов, изменения в оценивании </a:t>
            </a:r>
            <a:br>
              <a:rPr sz="3600"/>
            </a:br>
            <a:r>
              <a:rPr b="1" lang="ru-RU" sz="3600" spc="-1" strike="noStrike">
                <a:solidFill>
                  <a:srgbClr val="77003c"/>
                </a:solidFill>
                <a:latin typeface="Microsoft Sans Serif"/>
              </a:rPr>
              <a:t>по французскому языку </a:t>
            </a:r>
            <a:br>
              <a:rPr sz="3600"/>
            </a:br>
            <a:r>
              <a:rPr b="1" lang="ru-RU" sz="3600" spc="-1" strike="noStrike">
                <a:solidFill>
                  <a:srgbClr val="77003c"/>
                </a:solidFill>
                <a:latin typeface="Microsoft Sans Serif"/>
              </a:rPr>
              <a:t>ОГЭ -2019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8120" y="4876560"/>
            <a:ext cx="6781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fa5"/>
                </a:solidFill>
                <a:latin typeface="Microsoft Sans Serif"/>
              </a:rPr>
              <a:t>Исмагилова Ольга Алексеевна, председатель региональной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fa5"/>
                </a:solidFill>
                <a:latin typeface="Microsoft Sans Serif"/>
              </a:rPr>
              <a:t>предметной комиссии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fa5"/>
                </a:solidFill>
                <a:latin typeface="Microsoft Sans Serif"/>
              </a:rPr>
              <a:t>по французскому языку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Microsoft Sans Serif"/>
              </a:rPr>
              <a:t>Типичные ошибк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26665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неправильное употребление времени глагола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неправильный выбор вспомогательного глагола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неверное образование форм множественного числа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ошибки в формах спряжения глаголов 3 группы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и др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письму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2133720"/>
          <a:ext cx="8305920" cy="3294000"/>
        </p:xfrm>
        <a:graphic>
          <a:graphicData uri="http://schemas.openxmlformats.org/drawingml/2006/table">
            <a:tbl>
              <a:tblPr/>
              <a:tblGrid>
                <a:gridCol w="1371600"/>
                <a:gridCol w="380880"/>
                <a:gridCol w="381240"/>
                <a:gridCol w="533160"/>
                <a:gridCol w="533520"/>
                <a:gridCol w="457200"/>
                <a:gridCol w="380880"/>
                <a:gridCol w="533520"/>
                <a:gridCol w="380880"/>
                <a:gridCol w="609840"/>
                <a:gridCol w="609480"/>
                <a:gridCol w="533520"/>
                <a:gridCol w="380880"/>
                <a:gridCol w="609480"/>
                <a:gridCol w="609840"/>
              </a:tblGrid>
              <a:tr h="48708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е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12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7,9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Microsoft Sans Serif"/>
              </a:rPr>
              <a:t>Типичные ошибк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2120" y="23623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тсутствие ответа на один из вопросов корреспондента по критерию «Решение коммуникативной задачи»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4400" indent="-2844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аличие ответов на вопросы не по теме задани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4400" indent="-2844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шибки в употреблении различных классов местоимений, неправильное употребление глагольных времен, незнание глагольных форм по критерию «Языковое оформление текста»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4400" indent="-2844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шибки в придаточных предложениях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4400" indent="-2844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правильное написание  отдельных слов  по критерию «Орфография и пунктуация»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4400" indent="-2844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говоре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209680"/>
          <a:ext cx="7924680" cy="3353040"/>
        </p:xfrm>
        <a:graphic>
          <a:graphicData uri="http://schemas.openxmlformats.org/drawingml/2006/table">
            <a:tbl>
              <a:tblPr/>
              <a:tblGrid>
                <a:gridCol w="1585800"/>
                <a:gridCol w="500040"/>
                <a:gridCol w="728640"/>
                <a:gridCol w="730440"/>
                <a:gridCol w="522000"/>
                <a:gridCol w="520920"/>
                <a:gridCol w="517320"/>
                <a:gridCol w="630360"/>
                <a:gridCol w="728640"/>
                <a:gridCol w="730440"/>
                <a:gridCol w="730080"/>
              </a:tblGrid>
              <a:tr h="5810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е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8,9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2,6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говоре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209680"/>
          <a:ext cx="7332480" cy="3353040"/>
        </p:xfrm>
        <a:graphic>
          <a:graphicData uri="http://schemas.openxmlformats.org/drawingml/2006/table">
            <a:tbl>
              <a:tblPr/>
              <a:tblGrid>
                <a:gridCol w="1492200"/>
                <a:gridCol w="469800"/>
                <a:gridCol w="552600"/>
                <a:gridCol w="603000"/>
                <a:gridCol w="687600"/>
                <a:gridCol w="490320"/>
                <a:gridCol w="490680"/>
                <a:gridCol w="547560"/>
                <a:gridCol w="625680"/>
                <a:gridCol w="685800"/>
                <a:gridCol w="687240"/>
              </a:tblGrid>
              <a:tr h="5810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е в работе  3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К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Microsoft Sans Serif"/>
              </a:rPr>
              <a:t>Федеральный институт педагогических измерений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2133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1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100" spc="-1" strike="noStrike" u="sng">
                <a:solidFill>
                  <a:srgbClr val="fda609"/>
                </a:solidFill>
                <a:uFillTx/>
                <a:latin typeface="Microsoft Sans Serif"/>
                <a:hlinkClick r:id="rId1"/>
              </a:rPr>
              <a:t>http://fipi.ru/</a:t>
            </a:r>
            <a:endParaRPr b="0" lang="en-US" sz="101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1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9" name="Picture 2" descr="Главная"/>
          <p:cNvPicPr/>
          <p:nvPr/>
        </p:nvPicPr>
        <p:blipFill>
          <a:blip r:embed="rId2"/>
          <a:stretch/>
        </p:blipFill>
        <p:spPr>
          <a:xfrm>
            <a:off x="7467480" y="914400"/>
            <a:ext cx="1446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88584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И</a:t>
            </a: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зменений в формате экзамена, а также в структуре и  содержании КИМ  не произошло. Внесены уточнения  в критерии оценивания   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выполнения задания 33 «Личное письмо»</a:t>
            </a: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.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606060"/>
                </a:solidFill>
                <a:latin typeface="Microsoft Sans Serif"/>
              </a:rPr>
              <a:t>Демо-версия на сайте ФИПИ</a:t>
            </a:r>
            <a:br>
              <a:rPr sz="3200"/>
            </a:br>
            <a:r>
              <a:rPr b="1" lang="ru-RU" sz="3200" spc="-1" strike="noStrike">
                <a:solidFill>
                  <a:srgbClr val="606060"/>
                </a:solidFill>
                <a:latin typeface="Microsoft Sans Serif"/>
              </a:rPr>
              <a:t>http://www.fipi.ru/</a:t>
            </a: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-201600" y="1447920"/>
            <a:ext cx="9372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Microsoft Sans Serif"/>
              </a:rPr>
              <a:t>Изменения в структуре и содержании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Microsoft Sans Serif"/>
              </a:rPr>
              <a:t>КИМ ОГЭ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Microsoft Sans Serif"/>
              </a:rPr>
              <a:t>по французскому языку в 2019 г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4800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Microsoft Sans Serif"/>
              </a:rPr>
              <a:t>Содержание ОГЭ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3" name="Схема 1" descr=""/>
          <p:cNvPicPr/>
          <p:nvPr/>
        </p:nvPicPr>
        <p:blipFill>
          <a:blip r:embed="rId1"/>
          <a:stretch/>
        </p:blipFill>
        <p:spPr>
          <a:xfrm>
            <a:off x="304920" y="1590840"/>
            <a:ext cx="853416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Распределение заданий по количеству и типам заданий</a:t>
            </a: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2057400"/>
          <a:ext cx="6782040" cy="4037040"/>
        </p:xfrm>
        <a:graphic>
          <a:graphicData uri="http://schemas.openxmlformats.org/drawingml/2006/table">
            <a:tbl>
              <a:tblPr/>
              <a:tblGrid>
                <a:gridCol w="346320"/>
                <a:gridCol w="1782720"/>
                <a:gridCol w="1252440"/>
                <a:gridCol w="1657440"/>
                <a:gridCol w="17431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Число заданий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Максимальный первичный бал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1 (задания по аудирова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кратким ответом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2 (задания по чте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кратким ответом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3 (задания по грамматике и лексике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кратким ответом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4 (задание по письму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е с развернутым ответом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5 (задания по говоре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развернутым ответом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Продолжительность ОГЭ по ФЯ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95280" y="2057400"/>
          <a:ext cx="6782040" cy="4191120"/>
        </p:xfrm>
        <a:graphic>
          <a:graphicData uri="http://schemas.openxmlformats.org/drawingml/2006/table">
            <a:tbl>
              <a:tblPr/>
              <a:tblGrid>
                <a:gridCol w="606600"/>
                <a:gridCol w="3508200"/>
                <a:gridCol w="2667240"/>
              </a:tblGrid>
              <a:tr h="5284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екомендуемое время выполнения заданий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1 (задания по аудирова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2 (задания по чте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3 (задания по грамматике и лексике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4 (задание по письму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5 (задания по говоре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 минут (на одного отвечающего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5 минут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Microsoft Sans Serif"/>
              </a:rPr>
              <a:t>           </a:t>
            </a:r>
            <a:r>
              <a:rPr b="1" lang="ru-RU" sz="2400" spc="-1" strike="noStrike">
                <a:solidFill>
                  <a:srgbClr val="808080"/>
                </a:solidFill>
                <a:latin typeface="Microsoft Sans Serif"/>
              </a:rPr>
              <a:t>Участники ОГЭ по французскому языку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514600"/>
          <a:ext cx="7878600" cy="3251160"/>
        </p:xfrm>
        <a:graphic>
          <a:graphicData uri="http://schemas.openxmlformats.org/drawingml/2006/table">
            <a:tbl>
              <a:tblPr/>
              <a:tblGrid>
                <a:gridCol w="1730520"/>
                <a:gridCol w="630000"/>
                <a:gridCol w="1251000"/>
                <a:gridCol w="762120"/>
                <a:gridCol w="1341360"/>
                <a:gridCol w="838080"/>
                <a:gridCol w="1325520"/>
              </a:tblGrid>
              <a:tr h="458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чебный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f7f7f"/>
                          </a:solidFill>
                          <a:latin typeface="Microsoft Sans Serif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f7f7f"/>
                          </a:solidFill>
                          <a:latin typeface="Microsoft Sans Serif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f7f7f"/>
                          </a:solidFill>
                          <a:latin typeface="Microsoft Sans Serif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f7f7f"/>
                          </a:solidFill>
                          <a:latin typeface="Microsoft Sans Serif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f7f7f"/>
                          </a:solidFill>
                          <a:latin typeface="Microsoft Sans Serif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f7f7f"/>
                          </a:solidFill>
                          <a:latin typeface="Microsoft Sans Serif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124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Французский язык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, 20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,194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2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,28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  <p:sp>
        <p:nvSpPr>
          <p:cNvPr id="49" name="Заголовок 1"/>
          <p:cNvSpPr/>
          <p:nvPr/>
        </p:nvSpPr>
        <p:spPr>
          <a:xfrm>
            <a:off x="-152280" y="914400"/>
            <a:ext cx="85341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Результаты ОГЭ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по французскому языку</a:t>
            </a:r>
            <a:r>
              <a:rPr b="1" lang="en-US" sz="32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в 2018 году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0920" y="2362320"/>
            <a:ext cx="8458200" cy="26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400" spc="-1" strike="noStrike">
                <a:solidFill>
                  <a:srgbClr val="c00000"/>
                </a:solidFill>
                <a:latin typeface="Microsoft Sans Serif"/>
              </a:rPr>
              <a:t>Вебинар издательства «Просвещение» (21.05. 2018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Microsoft Sans Serif"/>
              </a:rPr>
              <a:t>Тема: ОГЭ и ЕГЭ по французскому языку: se préparer à la dernière minute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Лектор: Николаева Виктория Вячеславовна, член Федеральной комиссии разработчиков КИМ ЕГЭ по французскому языку ФИПИ, ведущий эксперт комиссии ЕГЭ по французскому языку г. Москвы, заместитель председателя центрально-методической комиссии Всероссийской олимпиады школьников по французскому языку Министерства образования и науки РФ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1280" y="1066680"/>
            <a:ext cx="8458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960" y="91404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Microsoft Sans Serif"/>
              </a:rPr>
              <a:t>Личное письмо: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Microsoft Sans Serif"/>
              </a:rPr>
              <a:t>формат и содержание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3" name="Схема 3" descr=""/>
          <p:cNvPicPr/>
          <p:nvPr/>
        </p:nvPicPr>
        <p:blipFill>
          <a:blip r:embed="rId1"/>
          <a:stretch/>
        </p:blipFill>
        <p:spPr>
          <a:xfrm>
            <a:off x="262080" y="1847880"/>
            <a:ext cx="8613720" cy="45403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2438280" y="3733920"/>
            <a:ext cx="6324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3636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Vous avez </a:t>
            </a:r>
            <a:r>
              <a:rPr b="1" lang="en-US" sz="1400" spc="-1" strike="noStrike">
                <a:solidFill>
                  <a:srgbClr val="363636"/>
                </a:solidFill>
                <a:latin typeface="Arial"/>
              </a:rPr>
              <a:t>30 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minutes pour écrire une lettre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3636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Vous avez reçu une lettre de votre correspondant français Xavier.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63636"/>
                </a:solidFill>
                <a:latin typeface="Arial"/>
              </a:rPr>
              <a:t>. ...Quel voyage ! On s'est rendu en voiture en Bretagne et là, nous avons passé quelques jours au bord de la mer. Je souhaite y aller encore une fois ! Comme tous mes copains j’adore les voyages ! Qu’en penses-tu, pourquoi tous les jeunes aiment voyager ? Où aimerais-tu aller ? Quels moyens de transport préfères-tu pour voyager, pourquoi ?  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3636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Écrivez-lui une lettre et répondez à ses </a:t>
            </a:r>
            <a:r>
              <a:rPr b="1" lang="en-US" sz="1400" spc="-1" strike="noStrike">
                <a:solidFill>
                  <a:srgbClr val="36363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 questions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3636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(En </a:t>
            </a:r>
            <a:r>
              <a:rPr b="1" lang="en-US" sz="1400" spc="-1" strike="noStrike">
                <a:solidFill>
                  <a:srgbClr val="363636"/>
                </a:solidFill>
                <a:latin typeface="Arial"/>
              </a:rPr>
              <a:t>100–120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 mots).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3636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Respectez les règles de la correspondance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0102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Личное письмо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формат и содержание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81480" y="2819520"/>
            <a:ext cx="381024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адрес автора (в правом верхнем углу письма)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дата на одной строке с адресом через запятую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обращение (слева, на отдельной строке)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ссылка на предыдущие контакты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ответы на 3 вопроса друга по переписке (основная часть письма)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упоминание о дальнейших контактах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завершающая фраза;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63636"/>
                </a:solidFill>
                <a:latin typeface="Microsoft Sans Serif"/>
              </a:rPr>
              <a:t>подпись автора (только имя) на отдельной строке.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36363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69516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5029200" y="2819520"/>
            <a:ext cx="3657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900c"/>
                </a:solidFill>
                <a:latin typeface="Microsoft Sans Serif"/>
              </a:rPr>
              <a:t>Технология оценивания задания 33 «Личное письмо»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100" name="Объект 5" descr=""/>
          <p:cNvPicPr/>
          <p:nvPr/>
        </p:nvPicPr>
        <p:blipFill>
          <a:blip r:embed="rId2"/>
          <a:stretch/>
        </p:blipFill>
        <p:spPr>
          <a:xfrm>
            <a:off x="1828800" y="1298520"/>
            <a:ext cx="7004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Рекомендации для учащихся                  по выполнению задания                «Личное письмо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Прежде чем выполнять задание, внимательно прочитайте текст задания и постарайтесь выделить 3 ключевых вопроса, на которые следует ответить.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Надо обратить внимание :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на имя отправителя письма, кто это, о чем он сообщает, просит ли совета,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в каком времени  написано сообщение в настоящем, прошлом или будущем,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о каком моменте в жизни  запрашивается информация: о настоящем, прошлом или будущем.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Следует писать письмо в соответствии с нормами этикета, принятыми во франкоговорящих странах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Microsoft Sans Serif"/>
              </a:rPr>
              <a:t>Структура и содержание устной части ОГЭ по ФЯ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286000"/>
          <a:ext cx="8153280" cy="347976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447920"/>
                <a:gridCol w="1600200"/>
                <a:gridCol w="2209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ид задан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ровень сложности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ремя подготовки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ремя выполнения задан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Максимальное количество балл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чтение вслух небольшого текста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1,5 мин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2 мин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2 балла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диалог-расспрос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Не предусмотрено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Не более 40 сек. на каждый ответ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6 баллов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тематическое монологическое высказывание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1,5 мин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2 мин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Arial Unicode MS"/>
                          <a:ea typeface="Arial Unicode MS"/>
                        </a:rPr>
                        <a:t>7 баллов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Формат и содержание заданий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устной части  ОГЭ  по  ФЯ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1080" y="21337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Задание 1. «Чтение вслух»</a:t>
            </a: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Позволяет настроить участника экзамена  и облегчить ему выполнение следующих заданий по говорению. 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Данное задание нацелено на контроль техники чтения.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Правильная интонация, произносительность звуков и словесное ударение – позволяет оценить понимание учащимся содержания читаемого текста.</a:t>
            </a: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Критерии оценивания позволяют оценить выполнение данного задания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Рекомендации для учащихся                  по выполнению задания                «Чтение вслух текста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1080" y="21337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внимательно прочитать текст задания про себ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просмотреть текст и выделить синтагмы в длинных предложениях, трудные для произношения слова, сконцентрировать внимание на незнакомых словах, прочитать их вслух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продумать интонацию различных типов коммуникативных предложений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прочитать текст шепотом, а потом вслух, обращая внимание на слитность и беглость речи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Формат и содержание заданий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устной части  ОГЭ  по  ФЯ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Задание 2. «Диалог-расспрос»</a:t>
            </a: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Предлагается участнику принять участие в телефонном опросе по определенной теме и ответить на 6 вопросов (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donner des r</a:t>
            </a: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é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ponses d</a:t>
            </a: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é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taill</a:t>
            </a: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é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es </a:t>
            </a: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à 6 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questions</a:t>
            </a: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Каждый вопрос оценивается от 0 до 1 балла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2057400" y="4280040"/>
            <a:ext cx="63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</a:t>
            </a:r>
            <a:r>
              <a:rPr b="1" lang="fr-FR" sz="20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Activité 2. Vous devez prendre part au sondage téléphonique. Donnez des réponses détaillées à 6 questions. La réponse à chaque question ne peut pas durer plus de 40 secondes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Рекомендации для учащихся                  по выполнению задания                «Диалог - расспрос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прочитайте текст задания про себя, обращая особое внимание на условия задания: количество вопросов (6 вопросов) и время ответа (40 секунд на каждый)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необходимо давать полные и точные ответы на заданные вопросы, при необходимости используя аргументацию и выражая свое отношение к предмету речи;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необходимо использовать лексические единицы и грамматические структуры, соответствующие коммуникативной задаче и сложности задани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-32904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отвечать на вопрос необходимо сразу после его прослушивания, затем слушать следующий вопрос и отвечать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505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Microsoft Sans Serif"/>
              </a:rPr>
              <a:t>Участники ОГЭ по АТЕ региона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1981080"/>
          <a:ext cx="7315200" cy="1381320"/>
        </p:xfrm>
        <a:graphic>
          <a:graphicData uri="http://schemas.openxmlformats.org/drawingml/2006/table">
            <a:tbl>
              <a:tblPr/>
              <a:tblGrid>
                <a:gridCol w="5562720"/>
                <a:gridCol w="17524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сего участников ОГЭ по предмету, из них: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Выпускники СОШ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Выпускники СОШ с углубленным изучением предмет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2"/>
          <p:cNvSpPr/>
          <p:nvPr/>
        </p:nvSpPr>
        <p:spPr>
          <a:xfrm>
            <a:off x="609480" y="10666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Microsoft Sans Serif"/>
              </a:rPr>
              <a:t>Участники ОГЭ по типам ОО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4419720"/>
          <a:ext cx="7315200" cy="1752480"/>
        </p:xfrm>
        <a:graphic>
          <a:graphicData uri="http://schemas.openxmlformats.org/drawingml/2006/table">
            <a:tbl>
              <a:tblPr/>
              <a:tblGrid>
                <a:gridCol w="3200400"/>
                <a:gridCol w="1447920"/>
                <a:gridCol w="2666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АТЕ регион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тво участник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% от общего числа участников по предмету в регионе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г. Орё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9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Залегощенский район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Формат и содержание заданий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Microsoft Sans Serif"/>
              </a:rPr>
              <a:t>устной части  ОГЭ  по  ФЯ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2949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Задание 3. «Монологическое высказывание»</a:t>
            </a:r>
            <a:r>
              <a:rPr b="0" lang="ru-RU" sz="1800" spc="-1" strike="noStrike">
                <a:solidFill>
                  <a:srgbClr val="404040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предлагает высказаться по определенной теме в течение 2 минут согласно плану в виде косвенных вопросов;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высказывание должно быть связным и логичным (10-12 фраз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28800" y="3505320"/>
            <a:ext cx="7162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Activité 3. Vous devez parler des ordinateurs. Vous avez 1,5 minutes pour préparer votre exposé. Votre exposé doit durer </a:t>
            </a:r>
            <a:r>
              <a:rPr b="1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2 minutes (10-12 phrases)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N’oubliez pas de dire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quels sont les avantages des ordinateu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quels sont leurs inconvéni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comment vous utilisez ou utiliseriez un ordinateu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Faites votre exposé sous forme d’un monologue cohérent et logique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900c"/>
                </a:solidFill>
                <a:latin typeface="Microsoft Sans Serif"/>
              </a:rPr>
              <a:t>Технология оценивания задания 36 «Монологическое высказывание»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118" name="Объект 5" descr=""/>
          <p:cNvPicPr/>
          <p:nvPr/>
        </p:nvPicPr>
        <p:blipFill>
          <a:blip r:embed="rId2"/>
          <a:stretch/>
        </p:blipFill>
        <p:spPr>
          <a:xfrm>
            <a:off x="1828800" y="1298520"/>
            <a:ext cx="70293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icrosoft Sans Serif"/>
              </a:rPr>
              <a:t>Рекомендации для учащихся по выполнению задания «Монологическое высказывание»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внимательно прочитать текст задания, обращая особое внимание на условия задания: аспекты, которые необходимо раскрыть, и время ответа (2 минуты);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продумать монологическое высказывание: вступление (о чем будете говорить), основную часть (раскрытие трех аспектов задания), заключение (подведение итога сказанному, выражение своего мнения)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Во время ответа необходимо: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начать с общего представления темы;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раскрыть содержание всех аспектов задания;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давать развернутую аргументацию, если в одном из аспектов задания есть </a:t>
            </a:r>
            <a:r>
              <a:rPr b="0" i="1" lang="en-US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Pourquoi</a:t>
            </a: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;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стараться не давать избыточную информацию, которая не обозначена в пунктах;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использовать лексические единицы и грамматические структуры, соответствующие коммуникативной задаче и сложности задания;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подвести итог, обобщив сказанное в основной части высказывания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Microsoft Sans Serif"/>
              </a:rPr>
              <a:t>Методические  рекомендации 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609480" y="28954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улярно проводить анализ нормативных документов, положенных в основу ОГЭ, следить за изменениями в содержании КИМ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омить обучающихся с демоверсиями ОГЭ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омить обучающихся с критериями оценивания заданий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ивизировать обучение говорению с использованием технического оборудования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щать  внимание на выполнение заданий интерактивного характера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у обучающихся умение четко выполнять поставленную задачу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одить постоянную работу по обогащению лексического запаса обучающихся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делять внимание фонетическому аспекту речи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умения и навыки спонтанной речи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оянно выполнять задания "открытых" вариантов ОГЭ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стематически проводить работу по анализу  допущенных обучающимися ошибок в ходе ОГЭ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0740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Microsoft Sans Serif"/>
              </a:rPr>
              <a:t>Пособия для подготовки к ОГЭ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124" name="Picture 6" descr="C:\Users\лицей 21\Desktop\ДО ФЯ\a4fff50b-74d0-11e6-a464-0050569c7d18.jpg"/>
          <p:cNvPicPr/>
          <p:nvPr/>
        </p:nvPicPr>
        <p:blipFill>
          <a:blip r:embed="rId1"/>
          <a:stretch/>
        </p:blipFill>
        <p:spPr>
          <a:xfrm>
            <a:off x="304920" y="1338120"/>
            <a:ext cx="2286000" cy="319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лицей 21\Desktop\ДО ФЯ\0d9aada7-72cd-11e7-9411-0050569c7d18.jpg"/>
          <p:cNvPicPr/>
          <p:nvPr/>
        </p:nvPicPr>
        <p:blipFill>
          <a:blip r:embed="rId2"/>
          <a:stretch/>
        </p:blipFill>
        <p:spPr>
          <a:xfrm>
            <a:off x="2362320" y="3429000"/>
            <a:ext cx="2361960" cy="318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лицей 21\Desktop\ДО ФЯ\1024896044.jpg"/>
          <p:cNvPicPr/>
          <p:nvPr/>
        </p:nvPicPr>
        <p:blipFill>
          <a:blip r:embed="rId3"/>
          <a:stretch/>
        </p:blipFill>
        <p:spPr>
          <a:xfrm>
            <a:off x="4572000" y="1338120"/>
            <a:ext cx="2239920" cy="302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лицей 21\Desktop\ДО ФЯ\b2c924f0-a889-11e5-9cdd-0050569c7d18.jpg"/>
          <p:cNvPicPr/>
          <p:nvPr/>
        </p:nvPicPr>
        <p:blipFill>
          <a:blip r:embed="rId4"/>
          <a:stretch/>
        </p:blipFill>
        <p:spPr>
          <a:xfrm>
            <a:off x="6400800" y="3505320"/>
            <a:ext cx="2359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2d14"/>
                </a:solidFill>
                <a:latin typeface="Microsoft Sans Serif"/>
              </a:rPr>
              <a:t>QUESTIONS ???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Microsoft Sans Serif"/>
              </a:rPr>
              <a:t>oismagilova2@yandex.ru</a:t>
            </a:r>
            <a:endParaRPr b="0" lang="en-US" sz="4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Microsoft Sans Serif"/>
              </a:rPr>
              <a:t>Результаты  участников  ОГЭ </a:t>
            </a:r>
            <a:br>
              <a:rPr sz="3200"/>
            </a:br>
            <a:r>
              <a:rPr b="1" lang="ru-RU" sz="3200" spc="-1" strike="noStrike">
                <a:solidFill>
                  <a:srgbClr val="808080"/>
                </a:solidFill>
                <a:latin typeface="Microsoft Sans Serif"/>
              </a:rPr>
              <a:t>по французскому языку в 2018 году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2514600"/>
          <a:ext cx="7619760" cy="3505320"/>
        </p:xfrm>
        <a:graphic>
          <a:graphicData uri="http://schemas.openxmlformats.org/drawingml/2006/table">
            <a:tbl>
              <a:tblPr/>
              <a:tblGrid>
                <a:gridCol w="5465520"/>
                <a:gridCol w="215424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тво участников,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тво участник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получивших оценку «2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получивших оценку «3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получивших оценку «4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получивших оценку «5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набравших максимальное количество первичных балл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3657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3636"/>
                </a:solidFill>
                <a:latin typeface="Microsoft Sans Serif"/>
              </a:rPr>
              <a:t>Динамика </a:t>
            </a:r>
            <a:br>
              <a:rPr sz="3200"/>
            </a:br>
            <a:r>
              <a:rPr b="1" lang="ru-RU" sz="3200" spc="-1" strike="noStrike">
                <a:solidFill>
                  <a:srgbClr val="363636"/>
                </a:solidFill>
                <a:latin typeface="Microsoft Sans Serif"/>
              </a:rPr>
              <a:t>результатов </a:t>
            </a:r>
            <a:br>
              <a:rPr sz="3200"/>
            </a:br>
            <a:r>
              <a:rPr b="1" lang="ru-RU" sz="3200" spc="-1" strike="noStrike">
                <a:solidFill>
                  <a:srgbClr val="363636"/>
                </a:solidFill>
                <a:latin typeface="Microsoft Sans Serif"/>
              </a:rPr>
              <a:t>за последние </a:t>
            </a:r>
            <a:br>
              <a:rPr sz="3200"/>
            </a:br>
            <a:r>
              <a:rPr b="1" lang="ru-RU" sz="3200" spc="-1" strike="noStrike">
                <a:solidFill>
                  <a:srgbClr val="363636"/>
                </a:solidFill>
                <a:latin typeface="Microsoft Sans Serif"/>
              </a:rPr>
              <a:t>3 года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4114800"/>
          <a:ext cx="8686800" cy="2468520"/>
        </p:xfrm>
        <a:graphic>
          <a:graphicData uri="http://schemas.openxmlformats.org/drawingml/2006/table">
            <a:tbl>
              <a:tblPr/>
              <a:tblGrid>
                <a:gridCol w="4554360"/>
                <a:gridCol w="1378080"/>
                <a:gridCol w="1376280"/>
                <a:gridCol w="1378080"/>
              </a:tblGrid>
              <a:tr h="46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Доля выпускников,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6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7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8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получивших оценку «2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23,0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получивших оценку «4 и 5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38,4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84,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3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набравших максимальное количество первичных балл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53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3,3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4,2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63636"/>
                          </a:solidFill>
                          <a:latin typeface="Microsoft Sans Serif"/>
                        </a:rPr>
                        <a:t>3,4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  <p:pic>
        <p:nvPicPr>
          <p:cNvPr id="58" name="Содержимое 4" descr=""/>
          <p:cNvPicPr/>
          <p:nvPr/>
        </p:nvPicPr>
        <p:blipFill>
          <a:blip r:embed="rId1"/>
          <a:stretch/>
        </p:blipFill>
        <p:spPr>
          <a:xfrm>
            <a:off x="3149640" y="1092240"/>
            <a:ext cx="5968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15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видам речевой деятельности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0" name="Диаграмма 1" descr=""/>
          <p:cNvPicPr/>
          <p:nvPr/>
        </p:nvPicPr>
        <p:blipFill>
          <a:blip r:embed="rId1"/>
          <a:stretch/>
        </p:blipFill>
        <p:spPr>
          <a:xfrm>
            <a:off x="1168560" y="2158920"/>
            <a:ext cx="7111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15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аудирова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2133720"/>
          <a:ext cx="7620120" cy="3760560"/>
        </p:xfrm>
        <a:graphic>
          <a:graphicData uri="http://schemas.openxmlformats.org/drawingml/2006/table">
            <a:tbl>
              <a:tblPr/>
              <a:tblGrid>
                <a:gridCol w="1548000"/>
                <a:gridCol w="2208240"/>
                <a:gridCol w="2077920"/>
                <a:gridCol w="1785960"/>
              </a:tblGrid>
              <a:tr h="121716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72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1 (задания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о аудированию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8,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8,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2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чте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1752480"/>
          <a:ext cx="8305560" cy="4489560"/>
        </p:xfrm>
        <a:graphic>
          <a:graphicData uri="http://schemas.openxmlformats.org/drawingml/2006/table">
            <a:tbl>
              <a:tblPr/>
              <a:tblGrid>
                <a:gridCol w="990360"/>
                <a:gridCol w="1413000"/>
                <a:gridCol w="1330200"/>
                <a:gridCol w="1143000"/>
                <a:gridCol w="838440"/>
                <a:gridCol w="792000"/>
                <a:gridCol w="900000"/>
                <a:gridCol w="898560"/>
              </a:tblGrid>
              <a:tr h="146052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Доля участников, получивших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ценку «2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ценку «3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ценку «4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ценку «5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2 (задания по чтению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2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7,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грамматике и лексике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295280"/>
          <a:ext cx="8763120" cy="5211720"/>
        </p:xfrm>
        <a:graphic>
          <a:graphicData uri="http://schemas.openxmlformats.org/drawingml/2006/table">
            <a:tbl>
              <a:tblPr/>
              <a:tblGrid>
                <a:gridCol w="1211400"/>
                <a:gridCol w="1473120"/>
                <a:gridCol w="1184040"/>
                <a:gridCol w="1420920"/>
                <a:gridCol w="868320"/>
                <a:gridCol w="868320"/>
                <a:gridCol w="947880"/>
                <a:gridCol w="789120"/>
              </a:tblGrid>
              <a:tr h="24372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частников, получивших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у «2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у «3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у «4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у «5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3 (задания по грамматике и лексике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3,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,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лицей 21</cp:lastModifiedBy>
  <dcterms:modified xsi:type="dcterms:W3CDTF">2019-03-13T06:34:36Z</dcterms:modified>
  <cp:revision>207</cp:revision>
  <dc:subject/>
  <dc:title>Name of presentation</dc:title>
</cp:coreProperties>
</file>